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3CA0-E2DA-44E2-82E3-8CF1BDEFE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AFC4-682B-41E9-B05B-1697C3D19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6EAF-C94F-4619-B1D2-56A9292BF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12B3-177A-4F3E-8F23-DD1872AC5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2807-D2D7-4549-8D6D-6604F904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2DD3-A8B3-4952-8BE5-FC26F6F0A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BE00-D502-4FC2-A061-45ECCE348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40A6-AEC3-4781-B18C-2026E7709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B762-B86C-4817-8511-94213CB8D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0FD2-A8F8-4D2B-8478-BA8D227F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66C0-12A3-4B56-95B2-6BB00937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6F3F-37B5-4471-B1BA-98D3B0FD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FF460-C86F-4D2A-9D32-C8B692758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T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54360" y="2049480"/>
            <a:ext cx="538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1. c=1, TMAX=1000, XMAX=100, tstep=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2. c=1, TMAX=500, XMAX=100, tstep=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3. c=1, TMAX=100, XMAX=100, tstep=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4. c=0.1, TMAX=1000, XMAX=100, tstep=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5. c=1.0, TMAX=1000, XMAX=100, tstep=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6. c=0.01, TMAX=1000, XMAX=100, tstep=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33480" y="1160640"/>
            <a:ext cx="921096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33480" y="1133640"/>
            <a:ext cx="921096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33480" y="1133640"/>
            <a:ext cx="921096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1133640"/>
            <a:ext cx="921060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1133640"/>
            <a:ext cx="921060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133640"/>
            <a:ext cx="921060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02:29:03Z</dcterms:created>
  <dc:creator>fujii</dc:creator>
  <dc:description/>
  <dc:language>en-US</dc:language>
  <cp:lastModifiedBy>fujii</cp:lastModifiedBy>
  <dcterms:modified xsi:type="dcterms:W3CDTF">2007-01-30T02:34:35Z</dcterms:modified>
  <cp:revision>3</cp:revision>
  <dc:subject/>
  <dc:title>FTCS</dc:title>
</cp:coreProperties>
</file>