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250-B737-4A1E-9960-7F9CBD71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76C-2F87-4CA1-A3CF-F072BDF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4FF-69DD-4E37-BA16-5E33C46C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92F-14F1-4EEE-9A4D-446E39A2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95A-D67E-49C4-A8E5-81F47E10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A66-B4B5-41D1-96DE-59047877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824-E99A-49F4-91D6-F8F0B405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240-F5DD-43E0-BAC0-01DA6BFB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43E-75B2-4103-A419-8EE29651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EBD-5261-4B86-92FB-B6FD67B9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944-CF79-4297-BCDF-B6959571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1D9-9F29-48A6-952C-4F65001F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7DAB-4C99-4A62-837B-4A930B83C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ひし形スキー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54360" y="2049480"/>
            <a:ext cx="53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 c=1, TMAX=1000, XMAX=100, tstep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 c=1, TMAX=500, XMAX=100, tstep=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 c=1, TMAX=100, XMAX=100, tstep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. c=0.1, TMAX=1000, XMAX=100, tstep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. c=1.0, TMAX=1000, XMAX=100, tstep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. c=0.01, TMAX=1000, XMAX=100, tstep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7. c=1.0, TMAX=200, XMAX=100, tstep=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8. c=1.0, TMAX=500, XMAX=200, tstep=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9. c=1.0, TMAX=250, XMAX=150, tstep=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24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2:29:03Z</dcterms:created>
  <dc:creator>fujii</dc:creator>
  <dc:description/>
  <dc:language>en-US</dc:language>
  <cp:lastModifiedBy>fujii</cp:lastModifiedBy>
  <dcterms:modified xsi:type="dcterms:W3CDTF">2007-01-30T02:41:38Z</dcterms:modified>
  <cp:revision>5</cp:revision>
  <dc:subject/>
  <dc:title>FTCS</dc:title>
</cp:coreProperties>
</file>