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819-8AF0-425A-8E09-C7B7AAB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B6F-47A5-45BA-B8EF-018E6C6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592-BAFD-4A29-9738-925E1ABB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1E0-9F8B-4463-9736-6E0D8B7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BEE-F02E-4CDB-BD95-F33CB85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408-891D-41C2-8D7C-677AC93D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154-C0FD-4BC0-B25C-68C830A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196-87B2-4D23-8D4F-386A392B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CA8-C86D-4FAC-9CA3-245F3056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AF9-8B87-41CE-AD0D-B7BE57A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37C-2D22-4B01-A111-C5C1DE37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422-4E86-477F-BBE5-1209C59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46D8-6243-4149-8B66-4AC68B93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T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319480"/>
            <a:ext cx="741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. c=1, TMAX=1000, XMAX=100, tstep=200, C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. c=1, TMAX=500, XMAX=100, tstep=100,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=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3. c=1, TMAX=100, XMAX=100, tstep=2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=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4. c=0.1, TMAX=1000, XMAX=100, tstep=200 C=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5. c=1.0, TMAX=1000, XMAX=100, tstep=20, C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6. c=0.01, TMAX=1000, XMAX=100, tstep=200 C=0.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7. c=0.1, TMAX=100, XMAX=100, tstep=2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=0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8. c=1.0, TMAX=1000, XMAX=100, tstep=2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9. c=0.1, TMAX=10, XMAX=10, tstep=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0. c=0.5, TMAX=500, XMAX=100, tstep=100 C=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11. c=0.5, TMAX=1000, XMAX=100, tstep=200, C=0.1(dx=0.5/X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3480" y="1160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3480" y="1160640"/>
            <a:ext cx="9210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3480" y="1089000"/>
            <a:ext cx="9210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3480" y="1089000"/>
            <a:ext cx="9210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3480" y="1125360"/>
            <a:ext cx="9210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3480" y="1125360"/>
            <a:ext cx="9210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3480" y="1125360"/>
            <a:ext cx="92109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92106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29:03Z</dcterms:created>
  <dc:creator>fujii</dc:creator>
  <dc:description/>
  <dc:language>en-US</dc:language>
  <cp:lastModifiedBy>fujii</cp:lastModifiedBy>
  <dcterms:modified xsi:type="dcterms:W3CDTF">2007-02-22T03:25:28Z</dcterms:modified>
  <cp:revision>3</cp:revision>
  <dc:subject/>
  <dc:title>FTCS</dc:title>
</cp:coreProperties>
</file>