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B40-0856-4009-98A9-B4BC13A5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BBF-45EC-4698-BC1B-38C9E2BE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219-F61B-4563-BA20-E1EC0B2C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075-B770-4F9B-8DFD-96F83AFB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CDE-2426-4F3D-BFDE-C908C76E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EBE-22BB-49A6-96D7-3D968DF9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12D-9314-4311-9A96-B8132BB5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AAA-D25C-406B-BE79-510DDA05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4EF-4E14-402D-B022-9EE18741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4AB-730C-42DC-9293-43120C32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DE0-138E-4497-8C33-E7718C7C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80E-5F16-49D9-B146-DB25983C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8858-C370-4737-BEE0-5FD7D1CB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-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54360" y="2049480"/>
            <a:ext cx="538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 c=1, TMAX=1000, XMAX=100, tstep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 c=1, TMAX=500, XMAX=100, tstep=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 c=1, TMAX=100, XMAX=100, tstep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. c=0.1, TMAX=1000, XMAX=100, tstep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. c=1.0, TMAX=1000, XMAX=100, tstep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. c=0.01, TMAX=1000, XMAX=100, tstep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6660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2:29:03Z</dcterms:created>
  <dc:creator>fujii</dc:creator>
  <dc:description/>
  <dc:language>en-US</dc:language>
  <cp:lastModifiedBy>fujii</cp:lastModifiedBy>
  <dcterms:modified xsi:type="dcterms:W3CDTF">2007-01-30T02:37:28Z</dcterms:modified>
  <cp:revision>4</cp:revision>
  <dc:subject/>
  <dc:title>FTCS</dc:title>
</cp:coreProperties>
</file>